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2677"/>
        <c:axId val="10615699"/>
      </c:barChart>
      <c:catAx>
        <c:axId val="89792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5699"/>
        <c:crosses val="autoZero"/>
        <c:auto val="1"/>
        <c:lblAlgn val="ctr"/>
        <c:lblOffset val="100"/>
        <c:noMultiLvlLbl val="0"/>
      </c:catAx>
      <c:valAx>
        <c:axId val="10615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2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ABD-5DEC-475C-BF91-4391A19C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B32-6109-495E-B434-91245484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4CE-E5FC-4591-97C4-7F9131EA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03A-F421-465A-8185-04EE00DF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E3F-5048-4AE0-8420-698FAEE6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288-CD44-4399-AFA4-38E814A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FD3-AEDB-49BA-966D-FA43373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562-5072-4022-B0C7-4A5E655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71F-C406-4ACC-B415-17CC62F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B80-F74C-4996-AB5D-C547EF4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D1D-51EB-4F30-B170-85E0B2B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EC6-4D97-4661-A6EF-030356E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B4BE-C91E-4DBE-A4E2-CB24DCD7B3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