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12863"/>
        <c:axId val="56112626"/>
      </c:barChart>
      <c:catAx>
        <c:axId val="29712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12626"/>
        <c:crosses val="autoZero"/>
        <c:auto val="1"/>
        <c:lblAlgn val="ctr"/>
        <c:lblOffset val="100"/>
        <c:noMultiLvlLbl val="0"/>
      </c:catAx>
      <c:valAx>
        <c:axId val="56112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12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982-7DBF-41D8-97B8-F49E638D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A88-5B11-4CFC-B951-9A1BC8A9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C4A-36AD-4B15-A466-C7C23830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5D-A7BB-4C8A-9CBB-DF94F97D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F7A-7586-4E83-8901-06CC1BDF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D8B-9626-4C40-A50D-1AF4C4F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5F2A-B1BE-44CF-8339-6C94A9E6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44D-04B3-4A08-9AEA-B1734C2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483-10EC-4D0C-BB0D-3D3A87D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6CC-4FE6-4377-8728-D10216D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01F-6A63-4424-AC54-F0D83CE4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857-FAD5-433E-AFC5-3361AC9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D5AF4-ADA0-4E67-B85A-6047C82EE6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