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01226"/>
        <c:axId val="92089493"/>
      </c:barChart>
      <c:catAx>
        <c:axId val="75501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89493"/>
        <c:crosses val="autoZero"/>
        <c:auto val="1"/>
        <c:lblAlgn val="ctr"/>
        <c:lblOffset val="100"/>
        <c:noMultiLvlLbl val="0"/>
      </c:catAx>
      <c:valAx>
        <c:axId val="92089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01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E0B-47C8-4732-94CB-A505EAC6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353-CDA5-47C8-9DCF-245FDD7F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F00-DC95-489B-8C38-7178880D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45F-DBFF-45E8-BCC0-FEA81430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630-ABDB-464E-9E1D-ECF1445E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84A-E161-4723-948E-95AA1EC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C8F-307F-4196-8E14-6C6993F4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148-B3C0-44A6-AD95-78FABE0D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94F-B9B7-4F5A-BDE0-FB462ED5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18F-8338-4C88-8FBC-E8AC8EBB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C2A-B7B4-41BF-A849-0DA0576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54B-A186-4E9C-AC14-4039405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2ACE3-EED2-418A-BD51-9F723E6794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