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03346"/>
        <c:axId val="8480295"/>
      </c:barChart>
      <c:catAx>
        <c:axId val="423033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0295"/>
        <c:crosses val="autoZero"/>
        <c:auto val="1"/>
        <c:lblAlgn val="ctr"/>
        <c:lblOffset val="100"/>
        <c:noMultiLvlLbl val="0"/>
      </c:catAx>
      <c:valAx>
        <c:axId val="84802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033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C6C2-A0DA-4524-982B-F1890F89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30C-08A4-4E86-B011-69D9AD33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A7D1-8CAF-4868-9B28-D094E44F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B879-BD0E-4632-814D-47C393AB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4C3D-64EF-47BB-85ED-484A7F74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390E-8D61-4C2A-90A3-AB619E91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9CDC-F463-487A-8A1C-DC91E4C6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0922-8422-457E-A772-EF5A5C75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8CC5-8D42-4CEA-83F8-E4C206B1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DA8F-6E93-45AA-AA42-7416E5E3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FE2C-C1A1-495B-A265-DB3E1DE9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5B45-7451-40F0-97E8-30CFB9A4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95598-64E0-442C-A81F-13FF9C1EF7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