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88261"/>
        <c:axId val="87870920"/>
      </c:barChart>
      <c:catAx>
        <c:axId val="40188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70920"/>
        <c:crosses val="autoZero"/>
        <c:auto val="1"/>
        <c:lblAlgn val="ctr"/>
        <c:lblOffset val="100"/>
        <c:noMultiLvlLbl val="0"/>
      </c:catAx>
      <c:valAx>
        <c:axId val="878709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88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46D-7556-442B-824A-458B5E07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791-D642-4097-8771-B38453F5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427-16D7-4B05-967C-5BD057A0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E19-F453-44BA-8F06-F562826F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DF6-2C12-4F9C-8606-998DD817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5A1-79E1-4E9F-AD0E-792CA7F7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5E2-6543-41D0-BC96-55E59FA7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2DF-4A7D-43CB-8E59-8C81DDD7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FF5-E778-4C8E-AA01-FA2932CF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15B-1446-416E-970C-BE51794D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860-779B-4AA4-B037-94B796AC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C36-7C82-4139-BA6A-F6DFE1E6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0257A-C99B-446E-87DE-9FA20295B9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