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34916"/>
        <c:axId val="2288178"/>
      </c:barChart>
      <c:catAx>
        <c:axId val="16734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8178"/>
        <c:crosses val="autoZero"/>
        <c:auto val="1"/>
        <c:lblAlgn val="ctr"/>
        <c:lblOffset val="100"/>
        <c:noMultiLvlLbl val="0"/>
      </c:catAx>
      <c:valAx>
        <c:axId val="2288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34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07F-B171-4D0F-ACE9-6110BAF8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D40-B93B-45BB-9D8B-455CEF2B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B0C-3A78-405C-8888-D942641C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F9A-00C0-4DF8-8BDB-8F59FF27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F60-25AB-45AA-88D1-BD68C8C6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931-348C-4355-B218-37CCCAAC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A5A-E10B-4A1C-AF84-5709CC69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9AD-3513-47EB-88F4-F9D8B6C0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004-D811-4626-B238-0FCA86F3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349-C6ED-402B-8429-6762DF6F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6BD-01A6-47BC-B45C-C49D4CD8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195-1E4D-44BE-BB8B-2C23F06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9DA93-46DF-49D7-93EA-0DE2F09258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