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48215"/>
        <c:axId val="97341537"/>
      </c:barChart>
      <c:catAx>
        <c:axId val="32148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41537"/>
        <c:crosses val="autoZero"/>
        <c:auto val="1"/>
        <c:lblAlgn val="ctr"/>
        <c:lblOffset val="100"/>
        <c:noMultiLvlLbl val="0"/>
      </c:catAx>
      <c:valAx>
        <c:axId val="97341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48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934-291A-4D7C-8EE8-AA47DFB6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B16-E7A5-464F-A95C-752C49BC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34D-ABE9-4741-A291-9D81FB53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8AC-9D53-41DA-9B20-188ACD13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1DD-5EE0-402C-A6E3-8E6235B6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089-D562-43A8-9A10-D2938D17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0D5-FAC3-4D47-AACF-A3531A12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12A-89EC-49B2-A6DC-7EF6A992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B74-FC99-41FE-9BD6-E0E9347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D90-9D66-431F-AA8A-9FA0206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EAB-34A5-4A6E-B8B7-43EF4A4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43E-8E76-40CA-8CE6-A4195AE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09946-2962-4F39-B1F9-AAD7221321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