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40569"/>
        <c:axId val="21911418"/>
      </c:barChart>
      <c:catAx>
        <c:axId val="52740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11418"/>
        <c:crosses val="autoZero"/>
        <c:auto val="1"/>
        <c:lblAlgn val="ctr"/>
        <c:lblOffset val="100"/>
        <c:noMultiLvlLbl val="0"/>
      </c:catAx>
      <c:valAx>
        <c:axId val="21911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40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769-7FA4-41B0-80CB-C2C1BCB2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433-71FE-40C2-BBF0-E4601138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AF7-8BDB-4402-B1F9-DD7687D9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52D-A0D0-4710-A8AF-1354EA8C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7A4-E830-4FE5-B4A2-0F3FF373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E16-4030-4EA8-A382-D86328F5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7C4-AF98-4215-AAE5-753C5D5D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84D-B7A8-4E9D-AAA7-2465AC26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F74-7B5C-4629-B2F3-CC1CD7FA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9E2-4301-48FF-9BEF-4D2A7D2E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D08-2C8B-402A-8930-2229483D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5BC-E927-4D88-A0CD-AB76E07D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4A3BB-A5DB-4FDB-87EE-B2D151654B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