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4907"/>
        <c:axId val="47853352"/>
      </c:barChart>
      <c:catAx>
        <c:axId val="6664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53352"/>
        <c:crosses val="autoZero"/>
        <c:auto val="1"/>
        <c:lblAlgn val="ctr"/>
        <c:lblOffset val="100"/>
        <c:noMultiLvlLbl val="0"/>
      </c:catAx>
      <c:valAx>
        <c:axId val="47853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4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FF0-C875-42D3-9926-4F4B99D3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89F-FCBD-441A-BE61-51583C5C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9F1-C358-4CB3-BCEB-96509864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115-870A-4545-99EE-E67210DB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CAB-39DD-4869-A6D9-BE8AF440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5E2-E47D-4AC1-84F8-F508AFDB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15D-71A6-415A-9085-25A2497A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EF5-6B2C-4281-BB1D-65CE5762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445-A5A0-443E-9849-5A464A58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B18-4AB0-4634-9AFF-29D36567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689-B140-454F-B06D-533B0DD9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73C-5978-46A3-B482-969E4AD5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4C017-7D2A-4D0A-A447-B0788B0A0B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