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79212"/>
        <c:axId val="84798629"/>
      </c:barChart>
      <c:catAx>
        <c:axId val="37079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98629"/>
        <c:crosses val="autoZero"/>
        <c:auto val="1"/>
        <c:lblAlgn val="ctr"/>
        <c:lblOffset val="100"/>
        <c:noMultiLvlLbl val="0"/>
      </c:catAx>
      <c:valAx>
        <c:axId val="847986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79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E30-6FB0-4AD3-A57B-F85161B3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CC6-1E7E-43B9-8D46-80ED5E9C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D0E-B198-4049-AE3D-6C713E83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AA4-436B-48F7-B399-75B8C7C7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433A-8DB9-43AD-BADD-DC17C48E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EEC-510B-4E49-8D69-E7E95C41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A11-2E85-4DA5-B537-C8FA0678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4057-E2D9-48C6-9810-6C9AEF43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C6A-B5B4-4EDB-AA2D-27B29700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8BF-6254-4BCC-ACA4-C65DF085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689F-70B2-4164-B9B7-3EB772C4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5CA-6BCB-4ECD-94AF-6320639B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4F922-84EE-4A0E-A421-E5234D6E0B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