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18606"/>
        <c:axId val="35675350"/>
      </c:barChart>
      <c:catAx>
        <c:axId val="8151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75350"/>
        <c:crosses val="autoZero"/>
        <c:auto val="1"/>
        <c:lblAlgn val="ctr"/>
        <c:lblOffset val="100"/>
        <c:noMultiLvlLbl val="0"/>
      </c:catAx>
      <c:valAx>
        <c:axId val="35675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1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920-C5FA-4F45-B3C3-BB3B047B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999-5F2E-4CD1-8EF4-08EED8E4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F0F-4324-442B-B089-EC00DE9A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EBE-6AA1-45B4-9664-310C38F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AB5-76E8-422A-9232-0373ACE0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06D-BBD7-4C90-A557-48BBF0DB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2CF-442E-4275-8C61-5EDF7A5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DB0-F9E8-4E75-B7FE-F264F4C6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5DB-5D2A-48D7-98A7-8689BB0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27E-C56E-484F-B3D3-23AE709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A08-E095-4778-8EE1-6291E11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633-D87D-4A90-818B-96F7BCA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3C88A-4F4C-4CA9-9921-607D2A51FE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