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85072"/>
        <c:axId val="84418315"/>
      </c:barChart>
      <c:catAx>
        <c:axId val="84285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18315"/>
        <c:crosses val="autoZero"/>
        <c:auto val="1"/>
        <c:lblAlgn val="ctr"/>
        <c:lblOffset val="100"/>
        <c:noMultiLvlLbl val="0"/>
      </c:catAx>
      <c:valAx>
        <c:axId val="84418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85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254-5BB7-4988-A4E7-A22CCE0A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ADE-1057-46DA-B0BA-7C19B065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C9C-DF64-4F17-9DCD-0A919F72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72B-62D6-442F-994C-6CE82FAD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37A-8EB9-4183-BC4A-D1A096DA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A3E-784F-4CBA-9065-C73D02E8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647-2E60-477D-A5BE-864B77F3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A57-7078-43ED-985A-8E5D6AC5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401-52BF-4BB3-9758-A526084D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AAA-32AE-4E13-9C59-A04761A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F63-4D58-42D5-BF7E-D876B815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00D-A59E-4B02-AB16-44984E40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7306A-9E8E-47D3-8D36-D4754B7996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