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577657"/>
        <c:axId val="3631391"/>
      </c:barChart>
      <c:catAx>
        <c:axId val="795776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1391"/>
        <c:crosses val="autoZero"/>
        <c:auto val="1"/>
        <c:lblAlgn val="ctr"/>
        <c:lblOffset val="100"/>
        <c:noMultiLvlLbl val="0"/>
      </c:catAx>
      <c:valAx>
        <c:axId val="36313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776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07BF-85F1-422A-867A-0C92B062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4755-4F9E-4265-A8B1-511B5A42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DE72-3013-40F4-9627-87B604D9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AA7F-1010-4A0F-B07D-83A5D732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FE59-62FE-456E-BA99-E0D3A8DA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9F68-AABE-4A43-A4B9-DF90FFED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CED6-F4CF-4B2A-B6AD-7D53F004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D9D4-59EE-4215-9727-08E41D97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BAFE-5D10-42FC-9097-80A48E23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9E70-F6CB-45FF-BF81-ED9237DC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21B2-82DB-4300-98AF-8BCE889F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D974-8A96-44AB-A7A6-8369E521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728D1C-A7C7-4D53-9F55-8279D6EE99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