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275207"/>
        <c:axId val="38341228"/>
      </c:barChart>
      <c:catAx>
        <c:axId val="732752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341228"/>
        <c:crosses val="autoZero"/>
        <c:auto val="1"/>
        <c:lblAlgn val="ctr"/>
        <c:lblOffset val="100"/>
        <c:noMultiLvlLbl val="0"/>
      </c:catAx>
      <c:valAx>
        <c:axId val="383412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2752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3FCD-24F2-403A-9B16-C56D66EFC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7186-4579-49D2-BE97-985B3765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3DD3-B2F3-48CA-BCBA-97F4AD7F2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F125-45BE-46B1-B669-D02B13404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2201-E881-434F-B50D-81C329C5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FFC4-68A2-4709-90C3-DB4050CA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C775-8F98-4206-B90B-D4E5D56A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4F45-4C4E-43EB-871D-9595545D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778F-EDE4-4872-8C3C-C1199AE1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8290-5CAF-4604-A178-64F717A0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3A4C-CF2F-468B-A6D1-A180396A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B137-87C6-4316-85D8-DE43E4C5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C591BA-D5B7-406F-97EE-696FEEC334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