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357339"/>
        <c:axId val="73713718"/>
      </c:barChart>
      <c:catAx>
        <c:axId val="453573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713718"/>
        <c:crosses val="autoZero"/>
        <c:auto val="1"/>
        <c:lblAlgn val="ctr"/>
        <c:lblOffset val="100"/>
        <c:noMultiLvlLbl val="0"/>
      </c:catAx>
      <c:valAx>
        <c:axId val="73713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573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7435-5EF6-44BF-88BF-6C55F90B6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6BF7-FDFE-4094-A459-5BB37A63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CE6-4AB1-40F3-ACD2-D1B011E3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84E-EF65-4A94-B13D-036E87A9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EC8F-58B3-4F3F-AE64-8874C084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34C-46DE-47F6-835A-FC5C4D4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D77-DBF4-4197-8410-95F3600B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53E-7363-40DF-B5E2-2D0AE0030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4DA-D702-4F97-B724-102A04F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26E-7E3C-4712-AB94-696486EF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BC65-960F-4963-92EC-8BD07228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6F3E-63E8-4F39-8529-06C93972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1CA316-42B0-419E-963F-B9DE091845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