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26475"/>
        <c:axId val="71007070"/>
      </c:barChart>
      <c:catAx>
        <c:axId val="49626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7070"/>
        <c:crosses val="autoZero"/>
        <c:auto val="1"/>
        <c:lblAlgn val="ctr"/>
        <c:lblOffset val="100"/>
        <c:noMultiLvlLbl val="0"/>
      </c:catAx>
      <c:valAx>
        <c:axId val="71007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6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3BA-FA59-4ED2-9257-666D0EC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6E4-1CD8-430C-A4E9-66645529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142-7FC1-428A-BE0E-1DB16F76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86C-342B-4553-A4A0-06B7403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5E5-A113-4C77-ADC4-B96140D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4E2-3C76-4D7C-942C-41CD5CF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937-08BE-44EC-A0DC-BE4DA3AF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408-019C-4606-A21E-122CF35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9F9-4EFF-4003-A3FB-489D0F7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BC4-71B9-46C0-93AA-ADF9AE0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2B8-73BE-4E99-817F-C8D160C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D5E-398F-4152-A782-38D3427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774FA-B1D5-4BB7-B0EA-5C802A346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