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45457"/>
        <c:axId val="70876087"/>
      </c:barChart>
      <c:catAx>
        <c:axId val="69245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76087"/>
        <c:crosses val="autoZero"/>
        <c:auto val="1"/>
        <c:lblAlgn val="ctr"/>
        <c:lblOffset val="100"/>
        <c:noMultiLvlLbl val="0"/>
      </c:catAx>
      <c:valAx>
        <c:axId val="70876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45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9FF-5A13-4DA7-BA95-D7DC9017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D85-D5B9-464C-B9E3-639378A1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7A3-6F04-4232-92EB-C2E5B23A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219-1043-4D70-9C19-3E558DC2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A37-9A37-480A-A3CB-34926CD9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20A-2415-45BD-A8BA-D838C402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92D-DC28-4404-B1C5-13BFE8ED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F85-EE7F-4373-8B90-48CE367E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93C-AD11-4C2E-B02D-75AAB2FF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905-0045-4D52-ACED-636F90C9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9A1-1E92-4C6B-9E8B-DF96FFF1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D67-4392-4E6F-989A-487CE88C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5B78B-B7EA-4781-839B-CC79BF3B36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