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50593"/>
        <c:axId val="18845035"/>
      </c:barChart>
      <c:catAx>
        <c:axId val="57650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45035"/>
        <c:crosses val="autoZero"/>
        <c:auto val="1"/>
        <c:lblAlgn val="ctr"/>
        <c:lblOffset val="100"/>
        <c:noMultiLvlLbl val="0"/>
      </c:catAx>
      <c:valAx>
        <c:axId val="18845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50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275-25D5-4FA6-9679-03BB4A2F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561-C8E2-4A33-80FD-DC01EAFF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732-9144-4F98-9639-D2F8BB1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5E6-490D-477C-A2D0-029BEBE3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B86-164D-416F-859E-D1A0F35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95C-8C67-4290-A137-AEB7540C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39B-EC49-4D4C-9AD9-3412CA32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FA0-D3F7-4794-85F3-0D91A4F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2C1-4E98-445B-A96C-17C9F447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34D-485C-440F-AA30-532146A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944-F7C9-4FDD-A0F3-589C1283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C20-A5EB-4EA2-9440-FA59E38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7F6B8-877B-453E-A89F-9BB0AA7325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