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79375"/>
        <c:axId val="65088262"/>
      </c:barChart>
      <c:catAx>
        <c:axId val="72079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88262"/>
        <c:crosses val="autoZero"/>
        <c:auto val="1"/>
        <c:lblAlgn val="ctr"/>
        <c:lblOffset val="100"/>
        <c:noMultiLvlLbl val="0"/>
      </c:catAx>
      <c:valAx>
        <c:axId val="65088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79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308-BA1A-417A-ADB9-76AEDBBB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DE8-EEDB-4528-95E9-0E8442D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EAD-CF4A-4751-A3C6-E7C78595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C9C-E717-4F03-88ED-368B5C45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399-D4BE-4985-80AB-D9BFFE61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EA3-D011-4627-BF04-390E736A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4F9-6DF4-4D28-BA09-439F5F5C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19F-745A-4DA7-9A2F-9A02483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2EE-9026-46CE-A451-F0105CB5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73B-CCCD-4DE5-9CFA-0E1D91E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48C-ACA2-4C62-8E9E-9A0EC6E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9C1-9D71-4968-A2EC-E4E5787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B9902-ED65-418F-8E9E-3B36EC9D73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