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18172"/>
        <c:axId val="9118379"/>
      </c:barChart>
      <c:catAx>
        <c:axId val="849181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379"/>
        <c:crosses val="autoZero"/>
        <c:auto val="1"/>
        <c:lblAlgn val="ctr"/>
        <c:lblOffset val="100"/>
        <c:noMultiLvlLbl val="0"/>
      </c:catAx>
      <c:valAx>
        <c:axId val="9118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181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683-4111-47A3-BDE6-3F1F72F7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D10-3A83-48D8-9C41-266F34E1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627-F3EA-452A-B730-00D6B11C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768-4BE5-43AD-97AC-2089D2B2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7BB-4BA8-4E77-B2F0-56EFA91E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2AF-ECFB-4FF4-B68B-2C15B5CB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85C-655A-455E-8D94-CCD8B090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D77-E6D2-411B-B8A0-750ADCE9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C30-431E-4EE6-8A00-A81E6A17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3E3-164D-4FBF-8B16-8234915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FCD-ACAA-4F7D-AFC6-684B1ECD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3D5-3E3C-4664-AA80-3C08BFAF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E6F97-15C2-4155-A034-8E6E9B0FCF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