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0904"/>
        <c:axId val="91381387"/>
      </c:barChart>
      <c:catAx>
        <c:axId val="1190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81387"/>
        <c:crosses val="autoZero"/>
        <c:auto val="1"/>
        <c:lblAlgn val="ctr"/>
        <c:lblOffset val="100"/>
        <c:noMultiLvlLbl val="0"/>
      </c:catAx>
      <c:valAx>
        <c:axId val="91381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805-3041-4008-9E3E-407DCC8D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F8C-CA9D-40FA-BEF4-E6897A7E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9A8-E6E8-45F3-A763-7873C852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D14-0730-4D1E-B55C-1CF36028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7D1-AF04-49BD-AF7D-8CF97600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5CA-B0EE-461B-B8C2-22586BB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844-E9D7-40F9-BA6E-202973C6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3BE-878B-4F34-B0FF-D47D05A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F58-D00B-4C93-A232-11D60C0A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13E-1217-4A96-99B9-67C68E1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443-9FE8-4C0E-B694-7F8283C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239-35AB-45E7-BA76-9C8819B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7DC56-0C57-4B04-8B72-4EA4ECFF4C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