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28921"/>
        <c:axId val="56609951"/>
      </c:barChart>
      <c:catAx>
        <c:axId val="23728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09951"/>
        <c:crosses val="autoZero"/>
        <c:auto val="1"/>
        <c:lblAlgn val="ctr"/>
        <c:lblOffset val="100"/>
        <c:noMultiLvlLbl val="0"/>
      </c:catAx>
      <c:valAx>
        <c:axId val="56609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28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8BE-D892-4B76-8440-F41992D9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7F1-6C06-4408-B5B7-967B2EE7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E21-0820-4DE7-869C-3381FF31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FE8-BA68-4117-AE27-15908E91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A7A-561F-49EB-AFF2-78411267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72E-61BD-4917-AF40-7EFCB4CB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761-90BF-4908-8C5E-604A5375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DFE-6EF3-4550-AB34-5F20CB11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6FE-0B13-4A1D-8BF8-A190874D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4FD-AB5C-4D35-9237-6B6047CE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C79-49CA-47A8-AD56-522E2AA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42A-E209-41A2-B93F-860391A2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CAFDB-1553-4873-B6F4-D9D716FFE4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