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89111"/>
        <c:axId val="8377903"/>
      </c:barChart>
      <c:catAx>
        <c:axId val="45589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903"/>
        <c:crosses val="autoZero"/>
        <c:auto val="1"/>
        <c:lblAlgn val="ctr"/>
        <c:lblOffset val="100"/>
        <c:noMultiLvlLbl val="0"/>
      </c:catAx>
      <c:valAx>
        <c:axId val="8377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9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0DB-251D-4F09-8435-220C79EB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E95-FF40-478A-8B07-18E8A73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455-F1EF-4877-B84B-96FE3FF6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170-4A46-48A2-8D90-80EC008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7D8-7C6A-46CF-B5EF-737E9E5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201-3E3F-4045-82A2-B2866B1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D5F-35A5-4174-B89E-024836D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205-82DC-4558-8CE8-B800BEFC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9B8-3BE6-415B-9DF6-8B59457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901-85BC-4A49-A972-99125F4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D19-5B28-4850-8BA6-2ACB75F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11C-C56D-469C-88B7-F9E8B60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9853-651D-430E-A930-3BA240051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