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24705"/>
        <c:axId val="77363963"/>
      </c:barChart>
      <c:catAx>
        <c:axId val="93624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63963"/>
        <c:crosses val="autoZero"/>
        <c:auto val="1"/>
        <c:lblAlgn val="ctr"/>
        <c:lblOffset val="100"/>
        <c:noMultiLvlLbl val="0"/>
      </c:catAx>
      <c:valAx>
        <c:axId val="77363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24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97C-4564-4204-B8A0-584AAAE7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C45-795B-4C6C-89F8-B2D45340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0A6-8DBE-40A1-886D-EC96AA5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9B3-10BD-4087-9561-036A68A1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199-3180-485E-9EAC-0CEF35D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339-4561-4697-B369-8FAB3AB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9C4-B26E-4657-988A-DB51E81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F06-DC11-4697-B394-49B8C43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F04-44C2-43C1-AB28-204F32D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C48-A77B-4424-BB13-DA57B216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090-2FD0-4A26-B807-A92B089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923-0A69-4CF9-81EF-1913F40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B6B5E-6A49-413E-9A8E-58A9CFEF86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