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88871"/>
        <c:axId val="6297312"/>
      </c:barChart>
      <c:catAx>
        <c:axId val="818888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7312"/>
        <c:crosses val="autoZero"/>
        <c:auto val="1"/>
        <c:lblAlgn val="ctr"/>
        <c:lblOffset val="100"/>
        <c:noMultiLvlLbl val="0"/>
      </c:catAx>
      <c:valAx>
        <c:axId val="62973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888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FCE7-4DDA-49B2-B919-6AE1C940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DF1-F21A-4F35-B39B-1DAB5A3E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494-98A8-40D9-B831-61E70350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8F3-FFB9-4370-9887-13FD8263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726-A742-4602-BD34-DBB2096F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DEA-497A-423E-B04D-EA69645B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2E1A-4835-49B1-A68E-7832162F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CB7-8060-481B-AF4F-16A9713E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A3E9-E404-4335-9923-05B7F3FC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1E4-5966-4F93-B90F-45FEB68C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213-088E-4317-9AA7-2A558444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852F-E735-4764-8F9B-8AB3D670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0F16F-890F-4A86-8142-2F976A8E06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