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36453"/>
        <c:axId val="84088708"/>
      </c:barChart>
      <c:catAx>
        <c:axId val="86036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88708"/>
        <c:crosses val="autoZero"/>
        <c:auto val="1"/>
        <c:lblAlgn val="ctr"/>
        <c:lblOffset val="100"/>
        <c:noMultiLvlLbl val="0"/>
      </c:catAx>
      <c:valAx>
        <c:axId val="84088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36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BBD-C259-4109-AA99-2FDC152C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B4D-6587-434F-8023-EDFA9AD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CA4-5DFB-427D-8420-6C7D5F5F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9808-55DF-4ED4-9BD1-760A7428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E20-8F1C-440D-9C43-22857798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D44-2B39-4DBC-9EFB-39496BC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343-E2D2-45AC-BA5B-FA7FE99E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AFC-1795-42DD-924A-9BC03F2A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9F39-FD3E-4915-8749-66452C6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E46-06EB-47EB-8FA5-1C9EB72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64F-C26F-42C9-9F81-0336A01E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929-1D9E-4722-B1BB-D0DBB886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33003-F601-4EDB-A676-0019D43305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