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63796"/>
        <c:axId val="55341162"/>
      </c:barChart>
      <c:catAx>
        <c:axId val="93763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41162"/>
        <c:crosses val="autoZero"/>
        <c:auto val="1"/>
        <c:lblAlgn val="ctr"/>
        <c:lblOffset val="100"/>
        <c:noMultiLvlLbl val="0"/>
      </c:catAx>
      <c:valAx>
        <c:axId val="55341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63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2D7-8E11-4B9C-96DB-233347A3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792-C985-440A-B297-834EF60C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B50-B577-4F69-9DB5-DD1C526A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8B0-DC4A-46CA-ABD0-9E2C9478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C43-9E83-43DE-B69C-7A0FC402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FFEF-8FB8-4059-9214-7A6A81A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09D-4760-4A54-961E-BACF31E7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173-C0FD-450B-B1A3-BCC62B9D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55E-932C-471C-865D-509858DD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8EC-22F9-47AF-A41F-176B7A69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3FD-27CD-4EC6-9117-3E92F3E2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E36-AAB6-45F3-A869-D6FBED8E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0AFF8-962B-4101-8563-CA00216C5C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