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86080"/>
        <c:axId val="74780859"/>
      </c:barChart>
      <c:catAx>
        <c:axId val="79186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80859"/>
        <c:crosses val="autoZero"/>
        <c:auto val="1"/>
        <c:lblAlgn val="ctr"/>
        <c:lblOffset val="100"/>
        <c:noMultiLvlLbl val="0"/>
      </c:catAx>
      <c:valAx>
        <c:axId val="74780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86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55A-1CA6-440B-8C4B-C91F1270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BD0-69F9-49FD-B7D0-CD6C545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F8B-8490-4402-A7DC-8029E23D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A00-EBE7-4210-81FE-F3C27701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3F4-6B21-49CF-9651-3EFC86D8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895-3086-4D55-957E-206D280D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827-77ED-418F-A62F-D4301A8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143-AF06-465F-9BCC-A183BC59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77E-8C53-48AD-ADCD-30D4C887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8B1-DAD3-43A8-A53C-C76A40FE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F81-8FDF-4CA1-9183-A6557E1B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F5D-8847-4C30-B9CB-926F9A4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ED539-DD20-4046-9578-1D52BCC5BF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