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89041"/>
        <c:axId val="67139265"/>
      </c:barChart>
      <c:catAx>
        <c:axId val="88889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39265"/>
        <c:crosses val="autoZero"/>
        <c:auto val="1"/>
        <c:lblAlgn val="ctr"/>
        <c:lblOffset val="100"/>
        <c:noMultiLvlLbl val="0"/>
      </c:catAx>
      <c:valAx>
        <c:axId val="67139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89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86F-6917-4092-9FE8-3686179D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155-A1E9-4C8E-B1F1-370CFE6F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D9C-2F91-4F7C-ADA5-FFA6E12C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461-F59E-4B0B-A164-BBB2D2D5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E63-C077-4D87-9EC8-1F87DF7A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6BB-19FC-40C2-B39C-0F6B002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AFA-1F0F-466D-B55C-8867AFE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FD1-3693-4709-87ED-D9D81855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CC8-FB4D-43EF-9E26-C5BF4870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A65-2BC0-4058-81E6-8CA9C8C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932-497F-41EA-80B7-6C96781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424-1F64-4BD2-8B32-F1A3E89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7F37C-BDAA-4D72-A127-CB50A1F2E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