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99643"/>
        <c:axId val="24988870"/>
      </c:barChart>
      <c:catAx>
        <c:axId val="34899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88870"/>
        <c:crosses val="autoZero"/>
        <c:auto val="1"/>
        <c:lblAlgn val="ctr"/>
        <c:lblOffset val="100"/>
        <c:noMultiLvlLbl val="0"/>
      </c:catAx>
      <c:valAx>
        <c:axId val="24988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99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041-EB64-4A88-AFD2-9462CFF3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3F1-817B-401E-B69D-CBE69C60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537-EBA4-440A-AEA5-6DE1842C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04C-5CC5-4005-A6D9-24FFAD3F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A2C-360A-4509-BDF4-2715BFBF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9B3-A3BC-4EB4-A5A6-1A21A534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2C5-301F-4DE2-B467-8F2A9060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396-42C5-4A96-933D-4ED5314F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A94-F01E-473F-B43D-953A23F3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CD7-0745-4C2A-B326-8A94850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25B-91C1-458D-89C5-D201A0C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97C-D9FF-46A8-86B0-34CA0E9C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7BDCC-9C6A-49BA-8F8E-CFC5E95CD4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