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5858350"/>
        <c:axId val="55675269"/>
      </c:barChart>
      <c:catAx>
        <c:axId val="8585835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675269"/>
        <c:crosses val="autoZero"/>
        <c:auto val="1"/>
        <c:lblAlgn val="ctr"/>
        <c:lblOffset val="100"/>
        <c:noMultiLvlLbl val="0"/>
      </c:catAx>
      <c:valAx>
        <c:axId val="5567526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85835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D699-239E-4F19-BABF-1EB5ACBDF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7CE4-DF18-4BA4-97A0-00893C266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7B65-ECAD-42F8-8BFA-45ABA9237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1AA8-2DFC-4B9F-8AA0-455812279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BFBF-D749-4250-925E-97D0EB917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959E-BF27-4712-A260-28332E44A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9437-3D36-476B-A2C9-480B6D341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91F5-09C1-4165-9C2A-78CFEFCF8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D7CE-55D0-4F9F-ACCA-838998CC0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339C-4EAE-46C9-BA6B-5FA512976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985A-BC8D-4F4C-93D8-4BE5AAF8C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7BCB-110B-4153-B865-6DD758C55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7041DD-9FE4-4F5C-A28E-A37CD1E0335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