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51989"/>
        <c:axId val="23305678"/>
      </c:barChart>
      <c:catAx>
        <c:axId val="33551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5678"/>
        <c:crosses val="autoZero"/>
        <c:auto val="1"/>
        <c:lblAlgn val="ctr"/>
        <c:lblOffset val="100"/>
        <c:noMultiLvlLbl val="0"/>
      </c:catAx>
      <c:valAx>
        <c:axId val="2330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51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37F-168B-44E3-900F-F608C412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35C-1D83-4D1F-93E3-CBB1695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F9C-5866-486D-8AAE-DF89CF78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54A-A3EC-4EFE-9BA6-75343AEF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C2F-6AEE-4398-A520-B619593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302-E855-4264-889B-AC8E6125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579-8C40-4DA4-9289-BDE2E40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AE9-9D58-44DD-9254-C55A9C2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2DF-6D76-49E3-B2AE-77C82A5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646-4C63-4096-9CF0-900A6F3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031-8A9F-476D-8B80-A99108C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BEC-607E-4A49-80F9-89FAC88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5EB1C-AC1D-4463-8EBB-42F921D11D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