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51826"/>
        <c:axId val="78329956"/>
      </c:barChart>
      <c:catAx>
        <c:axId val="76751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9956"/>
        <c:crosses val="autoZero"/>
        <c:auto val="1"/>
        <c:lblAlgn val="ctr"/>
        <c:lblOffset val="100"/>
        <c:noMultiLvlLbl val="0"/>
      </c:catAx>
      <c:valAx>
        <c:axId val="78329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1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FFF-9DF5-4FE2-9225-661B5149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9EF-A58D-4A98-BF2D-B0276EBC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C19-4929-4DFA-80E5-738D770B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A0F-27F0-4C1B-A0F1-FEC2149B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9B1-1C61-40EF-95E9-20EF2CD1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419-3C31-4314-A5B6-DA125C80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C05-9571-484D-843D-927F643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65D-C8A2-416F-854F-5517EE50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A3C-FA95-4757-AE5E-A5D032DF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54A-3788-4A18-9719-3BF0889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850-F3DF-4700-96B9-08511FC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7C0-D838-449F-842E-E28BCAC0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F538-1241-48EB-AC1B-F49A1EDD0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