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51358"/>
        <c:axId val="44570509"/>
      </c:barChart>
      <c:catAx>
        <c:axId val="91151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70509"/>
        <c:crosses val="autoZero"/>
        <c:auto val="1"/>
        <c:lblAlgn val="ctr"/>
        <c:lblOffset val="100"/>
        <c:noMultiLvlLbl val="0"/>
      </c:catAx>
      <c:valAx>
        <c:axId val="44570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51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2CC-BD5C-43FD-A912-42F7BEE0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281-6726-434D-B921-6BC1B227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5EE-3250-4E15-9C45-6F6EDF1C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C72-5E1B-410E-ACD0-3CE244BE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3AD-BB02-4511-98F0-EB935457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380-7575-4AF7-A48B-CA82348F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534-2B80-4672-9018-045B79D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AE4-356D-4B7D-8AD8-C05C4C38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1D5-29C4-4DAD-BA18-40D1D788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F4E-0740-40A8-B500-F82B361B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420-83B6-4C2C-B911-D442C5A0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6CA-0FD0-45FE-9640-829F0B45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91243-9350-4CC5-B5FC-D9D3234E3E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