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59251"/>
        <c:axId val="50762766"/>
      </c:barChart>
      <c:catAx>
        <c:axId val="91959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62766"/>
        <c:crosses val="autoZero"/>
        <c:auto val="1"/>
        <c:lblAlgn val="ctr"/>
        <c:lblOffset val="100"/>
        <c:noMultiLvlLbl val="0"/>
      </c:catAx>
      <c:valAx>
        <c:axId val="50762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59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285-1E35-4EDC-8AFB-589B8A3C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614-71F0-4AC9-A093-210ACDF2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9C3-C8AF-4270-9704-EACE7916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552-542D-4EFA-9A7E-2942F075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E07-D01E-43EB-A0C7-D8DA361B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432-3B1E-40E3-8D06-58AFEE5B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E74-06C2-420A-9C19-2230BD8B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285-9B2B-41AB-B554-3BA4A4EA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CF9-B02B-46DC-AF5B-A347FEB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03C-EF23-4443-B1CB-7186B0E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724-D17B-4EF5-917D-21D1FA6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4BD-FEFB-4545-BECD-D1B2617C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FC02F-6A74-484D-BFEA-8AB1983B95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