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563224"/>
        <c:axId val="36071563"/>
      </c:barChart>
      <c:catAx>
        <c:axId val="725632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71563"/>
        <c:crosses val="autoZero"/>
        <c:auto val="1"/>
        <c:lblAlgn val="ctr"/>
        <c:lblOffset val="100"/>
        <c:noMultiLvlLbl val="0"/>
      </c:catAx>
      <c:valAx>
        <c:axId val="360715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5632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2ACA-074E-4D5C-B8FD-D319F19D4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3CAF-80FF-4286-A443-ACE6B5C5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1F33-25A1-4748-A19F-B74F5AE7B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C4BD-CE7C-4F8A-8672-BC1CDFCEB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67B8-F1A2-469D-9577-42DAE812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D5DD-99EF-4B2B-AA6D-89AF41E6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C8E7-9070-4C03-8010-7A313589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42E5-0A31-4CB9-AACB-79944AE1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F4BA-BDCD-4304-A9FF-CF6E4FD4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B69B-549E-4AF1-864E-C6AA567B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2E5B-40BB-4E0D-8525-588B198B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FAB6-0488-45B0-8AD8-C09A9D25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DAF02-D37C-4A92-B4CB-674368F711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