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8338401"/>
        <c:axId val="86093163"/>
      </c:barChart>
      <c:catAx>
        <c:axId val="1833840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093163"/>
        <c:crosses val="autoZero"/>
        <c:auto val="1"/>
        <c:lblAlgn val="ctr"/>
        <c:lblOffset val="100"/>
        <c:noMultiLvlLbl val="0"/>
      </c:catAx>
      <c:valAx>
        <c:axId val="8609316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33840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8A1F-4697-4B5F-8AE3-D2D154D98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91B3-5E4D-47F0-BA18-AC827E50F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44E6-BBC0-4D5D-8494-E2F906BA1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4463-1AD9-4894-8CC5-3327AEBAB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8BB2-4106-4FEA-8911-C1DB8FFEB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262D-7BFB-4C23-91C3-6CDA49824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527C-2376-4A02-8D36-2E34C24D4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976B-9DCC-4251-9FC5-0DCB42385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801B-5DE8-4A20-B49B-A2FC4E00E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8C29-3CCF-4D27-8AD4-562580609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AF71-AAC3-4FE7-B3B6-3CDCB0FEE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EB10-3E28-4028-8D67-F92A88571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446012-E5D1-42D7-A1F0-8F297768DF2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