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52224"/>
        <c:axId val="52187578"/>
      </c:barChart>
      <c:catAx>
        <c:axId val="50152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87578"/>
        <c:crosses val="autoZero"/>
        <c:auto val="1"/>
        <c:lblAlgn val="ctr"/>
        <c:lblOffset val="100"/>
        <c:noMultiLvlLbl val="0"/>
      </c:catAx>
      <c:valAx>
        <c:axId val="52187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2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00C-3038-4881-9D99-D6EC66E9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E15-489D-4335-9852-5F2540F2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2D3-1CD2-4643-84DB-17B16188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DA8-5438-4863-8D8A-F3711BE0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609-E33E-4B0E-9760-C3EBADE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E94-F9A7-4304-9E76-EB3E9B1D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848-2601-495F-ABB6-43A383D3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0B6-C56D-4682-B64D-1E51D7DC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B65-A4EC-43B4-80CC-515F24AC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39B-9607-474B-A165-EAA0BFB1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FD2-A9D7-434F-AA83-740885C3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35C-D71A-483C-BC8A-A6C23FC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6DA6E-276B-476B-820C-7401AEF089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