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041711"/>
        <c:axId val="40557743"/>
      </c:barChart>
      <c:catAx>
        <c:axId val="220417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57743"/>
        <c:crosses val="autoZero"/>
        <c:auto val="1"/>
        <c:lblAlgn val="ctr"/>
        <c:lblOffset val="100"/>
        <c:noMultiLvlLbl val="0"/>
      </c:catAx>
      <c:valAx>
        <c:axId val="405577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417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DC67-1A88-4F6D-94F1-1CE4C221E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F49B-DAC8-4290-92A0-94689AD6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9DEF-CEEF-4CE7-8E4B-7DC772EE1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1AFC-0E9D-4E21-AA6E-139C1B40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B752-E405-4961-BFB8-6C8D95F7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4D25-F64B-4CF1-A5E5-9802577F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85EB-81CB-47A6-A8FF-B843EF73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8357-908C-4D3F-A048-E7191F8F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4B90-7E82-4811-8E35-A5F5D54D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0D17-7D46-4C70-BC43-12592777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6D6C-CB26-45F8-9C4A-BCA7884A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46BA-A92C-4FD7-A98E-FC44EA53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A8905-71DB-47C3-BD52-1DF0400A20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