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46418"/>
        <c:axId val="86953069"/>
      </c:barChart>
      <c:catAx>
        <c:axId val="883464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53069"/>
        <c:crosses val="autoZero"/>
        <c:auto val="1"/>
        <c:lblAlgn val="ctr"/>
        <c:lblOffset val="100"/>
        <c:noMultiLvlLbl val="0"/>
      </c:catAx>
      <c:valAx>
        <c:axId val="869530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464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C4E9-A8D6-4B70-BA0B-B7E84DCC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EAEA-F0F3-4D41-AFDB-4F549A16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68EC-DEAC-44C8-8A3C-7E9D0BD5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1333-99E5-44C5-B3F6-01610E27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2A48-AA15-44A6-83DB-10E762D1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1D6B-854D-4CB6-98C2-FAF21B86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08AE-87CC-4D9E-B4B3-709432B1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642C-C5A3-4563-995A-9CCC75C0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63DF-D75F-46EB-8040-7C10B709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3D25-7B27-4B42-A6CB-D1D5416A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CB71-AD5F-453F-AAAC-41824527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5841-E4C0-4511-9E83-BF81F72A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0C554-0622-404B-9B99-744F4A90B3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