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37336"/>
        <c:axId val="4907503"/>
      </c:barChart>
      <c:catAx>
        <c:axId val="2843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7503"/>
        <c:crosses val="autoZero"/>
        <c:auto val="1"/>
        <c:lblAlgn val="ctr"/>
        <c:lblOffset val="100"/>
        <c:noMultiLvlLbl val="0"/>
      </c:catAx>
      <c:valAx>
        <c:axId val="4907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3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211-8FF2-4FE4-A0E9-956040D8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AF8-8D27-4815-9D97-473B85D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DD7-0F46-483D-A559-387E3D47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95B-3644-4730-A30F-0FF3CE75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D1F-FBC3-43DD-A706-7FD59198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DE0-78E9-43FD-9AD3-EBAEC26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9C9-727D-423F-ADC4-304DE88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597-DB92-4F14-BCC3-6083D8B1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8FC-A812-4409-AB0B-3D6DC30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7BE-22EE-4577-B09B-95E4079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9AE-5FCB-4B2C-9E04-C9517E2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35F-A022-48AE-94E1-EA26F77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6F899-A2DF-4AED-904E-6A1FADF82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