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03616"/>
        <c:axId val="65265611"/>
      </c:barChart>
      <c:catAx>
        <c:axId val="42303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65611"/>
        <c:crosses val="autoZero"/>
        <c:auto val="1"/>
        <c:lblAlgn val="ctr"/>
        <c:lblOffset val="100"/>
        <c:noMultiLvlLbl val="0"/>
      </c:catAx>
      <c:valAx>
        <c:axId val="65265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03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4245-D9FD-4B30-A09C-0807D13D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79A-9412-4798-9CB2-87F5EF3C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4A9-73B9-44D1-8240-ACCAE2C4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2D9-E22C-4506-922D-D43D087D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7BE-1973-4B04-8105-06719632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B37-E676-44FF-85E7-B9DAFDD0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616-388E-4BF3-88FB-0843E1AE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B2A-046B-460A-A2C5-1F6C8055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5DA-AC22-44EB-B543-CF7D3C0A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8C5-31C9-437F-B33F-815844A5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E76-6BB6-4B5C-9742-AB979CC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F60-5666-49C0-9D7E-95A5441A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C01B3-F4B3-4A99-9177-BCBC92C1A2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