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903644"/>
        <c:axId val="96833440"/>
      </c:barChart>
      <c:catAx>
        <c:axId val="279036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33440"/>
        <c:crosses val="autoZero"/>
        <c:auto val="1"/>
        <c:lblAlgn val="ctr"/>
        <c:lblOffset val="100"/>
        <c:noMultiLvlLbl val="0"/>
      </c:catAx>
      <c:valAx>
        <c:axId val="96833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036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2B8-F19F-4FC8-AA08-698E2350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0F0F-A98C-47B6-95F0-6F33EA4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87D-317B-4564-A2BB-0DE205EE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AAD-7430-4E55-90AA-1E3A695E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C481-6600-4EFF-84DC-8532ED70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A8F9-03FB-4077-BC43-8609CFF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410-E72C-4AFF-B991-498CF2B53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3AF-B8B5-43B9-8C27-AD0FBC71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BE0-CDD6-4389-A41F-1488760B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B988-0D25-4F7C-AB35-FA8A93BA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9022-3020-4635-A58E-30E330AF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977-FFA5-4DDE-95C4-1CAE6A2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D3C59-3641-49BF-891E-4ED1204A6E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