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77577"/>
        <c:axId val="88664123"/>
      </c:barChart>
      <c:catAx>
        <c:axId val="92977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64123"/>
        <c:crosses val="autoZero"/>
        <c:auto val="1"/>
        <c:lblAlgn val="ctr"/>
        <c:lblOffset val="100"/>
        <c:noMultiLvlLbl val="0"/>
      </c:catAx>
      <c:valAx>
        <c:axId val="88664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77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E6C-C1E4-4366-8376-6A5DB703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2DC-D15D-4556-ABF4-E8C141DB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227-209B-4E85-85E5-CFAC378C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324-6999-4F1A-8745-43633A52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20C-8D42-49B1-93FA-D6A25A2B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B7D-6FF8-43B7-8401-ED0B628F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170-4DCA-4512-8B41-E5F0A81B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7D2-C29E-4877-B372-B0FB5208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8AE-3E7D-4CE2-8D4C-AA8AB17C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230-96FE-484F-8FFC-97DF90BB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7EC-DBB7-42AE-809D-FAEE5C8B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191-F1DC-4E07-9946-EF32CED4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A1232-AF17-4A51-8526-31D31411D1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