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690444"/>
        <c:axId val="73420734"/>
      </c:barChart>
      <c:catAx>
        <c:axId val="356904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420734"/>
        <c:crosses val="autoZero"/>
        <c:auto val="1"/>
        <c:lblAlgn val="ctr"/>
        <c:lblOffset val="100"/>
        <c:noMultiLvlLbl val="0"/>
      </c:catAx>
      <c:valAx>
        <c:axId val="734207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6904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FCB6-27D6-4737-AE8B-242329B66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8A6D-9073-4970-958D-E2D5824B0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6A70-0091-429C-9B1F-CA71D5520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5166-FBFF-45FF-8806-324637BAC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F599-8C58-4434-8AAF-95929F56E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6F87-5A7F-472E-A5FF-284B9D966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0B1C-E209-4927-83E1-BA43CFA65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3BA2-702F-4836-9F1B-DDB017B8D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8DBB-25A1-44B0-87C6-E0AAAEFEC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06E7-5794-4D6E-84C8-77923B6A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91DC-FD7B-4B76-8954-D83D5E9A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7919-D19E-4734-9C79-6991656E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EA7838-CADC-47FF-8350-6BCCB601D3D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