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02317"/>
        <c:axId val="73919947"/>
      </c:barChart>
      <c:catAx>
        <c:axId val="28902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19947"/>
        <c:crosses val="autoZero"/>
        <c:auto val="1"/>
        <c:lblAlgn val="ctr"/>
        <c:lblOffset val="100"/>
        <c:noMultiLvlLbl val="0"/>
      </c:catAx>
      <c:valAx>
        <c:axId val="73919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02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25A-18D4-4EF8-8E89-7C46744F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B5D-8901-4525-B99D-021ABE76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9DF-4B73-4E7C-9BB4-8115D50E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6AD-F162-44AE-A934-7F4F0B53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D35-85BA-4F2F-8123-90CE284B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817-944A-4E1A-9C2F-B7A27D33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E4B-F82A-469F-80EF-5A104D46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664-4434-4617-A131-FA2A2EE3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450E-508C-44B3-B83D-78604B62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1F4-4FAA-408C-9F5D-B7E85130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372C-5DF6-4D88-BE9A-56137791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E5F-DF24-4D19-B3EC-241FE37C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965AC-8910-4338-949D-14A78EBCBA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