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84806"/>
        <c:axId val="77873443"/>
      </c:barChart>
      <c:catAx>
        <c:axId val="20584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3443"/>
        <c:crosses val="autoZero"/>
        <c:auto val="1"/>
        <c:lblAlgn val="ctr"/>
        <c:lblOffset val="100"/>
        <c:noMultiLvlLbl val="0"/>
      </c:catAx>
      <c:valAx>
        <c:axId val="77873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84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6B1-5A8F-452B-BE2C-B95168E8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F4B-B63B-4929-ADCA-A89620BF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5E2-0164-4291-90CA-EB985DFA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2B1-88F8-4684-A311-62CB135E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F17-14D2-41C3-8CC7-B0BF6C33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704-9328-45E3-AD63-6DDC0C1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2C5-63F7-4396-94D7-67AC7FB0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83B-6142-41CC-96CE-B1E82DA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565-0A5F-48C0-910C-C9E12BBB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C5C-5019-4824-9590-8050B26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C59-E5E7-4382-A638-7DDF113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55E-88DD-4F5C-B4BE-EB50ABC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D859-BB0F-434E-B840-2F6EB7EA7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