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46008"/>
        <c:axId val="75224758"/>
      </c:barChart>
      <c:catAx>
        <c:axId val="44146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24758"/>
        <c:crosses val="autoZero"/>
        <c:auto val="1"/>
        <c:lblAlgn val="ctr"/>
        <c:lblOffset val="100"/>
        <c:noMultiLvlLbl val="0"/>
      </c:catAx>
      <c:valAx>
        <c:axId val="752247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46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A7D-5942-4332-B4E3-3A663607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060-8B38-4C15-8257-58F3F3F5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EEFD-05B4-4929-AE49-F30142AC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80F-BD2A-4671-8D6E-10303CF7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8F5-5A3E-4762-A072-6BA16E32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52C1-9A29-4CA4-94AB-B0FA69DD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7165-DCD2-49B1-803A-5948A656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E0C-14CC-4E7D-9CDC-70439611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CA7-8D54-4423-8F53-EC4AFCA1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542-9A27-4ED0-8B81-B992070D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BB2-1973-4021-A4C1-1E65859A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931F-924C-47A3-96C5-73260DB6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46B9E-59A9-42E3-9D40-B09B2C0D8E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