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753854"/>
        <c:axId val="70715622"/>
      </c:barChart>
      <c:catAx>
        <c:axId val="687538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715622"/>
        <c:crosses val="autoZero"/>
        <c:auto val="1"/>
        <c:lblAlgn val="ctr"/>
        <c:lblOffset val="100"/>
        <c:noMultiLvlLbl val="0"/>
      </c:catAx>
      <c:valAx>
        <c:axId val="707156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7538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19FB-7D36-4173-AC69-38568D860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FBC7-5B42-4073-A839-4E98A9684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FD16-40B0-421B-90E7-BCA0BB31F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80E3-1336-47F1-8973-B2ED14FBB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E122-130F-4BB0-BA44-C6CB7B32E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45D2-30D7-4BBC-BBB8-92A543032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3187-DCA0-4A90-AE70-BD04A596D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8FAE-6299-47F5-B7C5-6B47A58E2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F3B9-B046-468B-AAE6-77DF85171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3585-EC91-49B3-AD02-FD9CF2C7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2736-0824-4E00-87A3-79553553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7AC6-9F68-4CBD-8A40-3BB0A9CC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04BFBD-2EF5-45DC-84AA-0D8FDE21EFB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