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86293"/>
        <c:axId val="73477932"/>
      </c:barChart>
      <c:catAx>
        <c:axId val="63086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77932"/>
        <c:crosses val="autoZero"/>
        <c:auto val="1"/>
        <c:lblAlgn val="ctr"/>
        <c:lblOffset val="100"/>
        <c:noMultiLvlLbl val="0"/>
      </c:catAx>
      <c:valAx>
        <c:axId val="73477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86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389-B0F4-48B3-B452-00C601BE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5F6-9F01-4AC1-8D39-90F728FD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1E1-2D69-4ECC-BBF5-F8E7C309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5B5-BE61-4DD7-A214-253AC050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AD4-96FE-461D-B358-64B24379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D7E-7697-43D1-BEA7-F309081E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682-D631-4C2E-89B6-E978BF7C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072-EA46-43AD-B623-7F907F71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A6E-3D0B-460E-A7D9-7F52DCC1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C4F-E2C6-41D7-A4EC-60E00A15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842-E2AF-4ECF-97CF-C5A05010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FCE-A585-4240-A5A7-3C162AB4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5178E-95DC-42C5-9B87-997322A116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